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86C9-60DF-4B2B-8760-52602F8709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2 ho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2AC-D50A-4044-97B6-7C7F0EC857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class into 2 groups to list reasons for a or b. Then discuss in pairs: a and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BF04-443B-4EC3-8363-41BC0B43E57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dictate the true-false sentences first, then learners could look at the slide to check. Then they discuss whether they are true or fa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1611-461C-4F85-B544-3D95A98646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1B4F-CC55-406D-9C41-B9A8B88299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both texts and give one to each half of the class and do this as a jigsaw-reading – or all students could read both tex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283D-B2B9-4C24-9B1E-5B897D4758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C9AF-8DF1-4898-861F-F47C5982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DCA-8834-402F-B756-D168697E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129-F6AD-4BAC-9616-9D279F96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F70-7312-470A-B075-71CABD90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F6D9-765B-4835-B723-ACF71F79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334-03BA-4ECD-A6DB-102BBF98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0E8-5AE0-4858-8FFA-9EF9CA03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16DC-E105-4CA1-9B9E-7F694CC7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28A-45C8-4455-9874-6636BC2C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309F-4213-4BC1-9210-EF8342C1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40E-233D-4DEF-A488-735A838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F26-AA86-45C7-9B1C-20CC4985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A89A-3695-4825-BC65-4352FD94BF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10/01/n456_infographic.j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Young_people_becoming_more_importan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0" spc="-1" strike="noStrike">
                <a:solidFill>
                  <a:srgbClr val="7030a0"/>
                </a:solidFill>
                <a:latin typeface="Calibri"/>
              </a:rPr>
              <a:t>Youth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755640" y="22320"/>
            <a:ext cx="81154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Why ..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) is it good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) is it difficult to be a youth (15 – 24 year-old) in the world in 2012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youth1.jpg"/>
          <p:cNvPicPr/>
          <p:nvPr/>
        </p:nvPicPr>
        <p:blipFill>
          <a:blip r:embed="rId1"/>
          <a:stretch/>
        </p:blipFill>
        <p:spPr>
          <a:xfrm>
            <a:off x="2995560" y="5013360"/>
            <a:ext cx="2440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ue or false? Discus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ths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Now check the facts: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10/01/n456_infographic.jp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youth2.jpg"/>
          <p:cNvPicPr/>
          <p:nvPr/>
        </p:nvPicPr>
        <p:blipFill>
          <a:blip r:embed="rId2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llow-up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read the original articles – they will seem much easi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young-people-mcinty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www.newint.org/features/2012/10/01/selling-out-youth-laurie-penny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youth1.jpg"/>
          <p:cNvPicPr/>
          <p:nvPr/>
        </p:nvPicPr>
        <p:blipFill>
          <a:blip r:embed="rId1"/>
          <a:stretch/>
        </p:blipFill>
        <p:spPr>
          <a:xfrm>
            <a:off x="5842080" y="4508640"/>
            <a:ext cx="313848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Mix</cp:lastModifiedBy>
  <dcterms:modified xsi:type="dcterms:W3CDTF">2012-10-28T16:58:13Z</dcterms:modified>
  <cp:revision>5</cp:revision>
  <dc:subject/>
  <dc:title>Youth</dc:title>
</cp:coreProperties>
</file>